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F34-E721-4058-8356-53BCAA72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4B7-C100-47B5-8F46-6FCA7CE4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F0D-13A5-4DFA-824C-70CBE04B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F9C-1EA3-4949-88CE-3EE8B9F7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D86-67D6-4185-8C68-1C0D19CF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591-3EA6-44E4-9247-C633D20E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552-996C-46EF-B95C-A942EF9F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D3E-3F3E-48F2-ACCB-F05FBA83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BDA-0608-432A-B0D2-B81BB90F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722-4854-41F7-9169-F37C27C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E16-6B81-4A53-A70F-1F90012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1C1-3B9B-452F-8E48-B3F7B299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5DA2-26D2-4AB2-A812-32F60FB5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sanimated.com/animation.php?t=Big_O_notation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sanimated.com/animation.php?t=Big_O_notation" TargetMode="External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s.jhu.edu/~goodrich/dsa/trees/avltree.html" TargetMode="External"/><Relationship Id="rId3" Type="http://schemas.openxmlformats.org/officeDocument/2006/relationships/hyperlink" Target="http://emmanuel.deb.free.fr/uv4/texte/icono/cartes.html" TargetMode="External"/><Relationship Id="rId4" Type="http://schemas.openxmlformats.org/officeDocument/2006/relationships/hyperlink" Target="http://emmanuel.deb.free.fr/uv4/texte/icono/cartes.html" TargetMode="Externa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videolectures.net/mit6046jf05_introduction_algorithms/" TargetMode="External"/><Relationship Id="rId2" Type="http://schemas.openxmlformats.org/officeDocument/2006/relationships/hyperlink" Target="http://www.csanimated.com/animation.php?t=Big_O_notation" TargetMode="External"/><Relationship Id="rId3" Type="http://schemas.openxmlformats.org/officeDocument/2006/relationships/hyperlink" Target="http://www.csanimated.com/animation.php?t=Big_O_notation" TargetMode="External"/><Relationship Id="rId4" Type="http://schemas.openxmlformats.org/officeDocument/2006/relationships/hyperlink" Target="http://www.csanimated.com/animation.php?t=Big_O_notation" TargetMode="External"/><Relationship Id="rId5" Type="http://schemas.openxmlformats.org/officeDocument/2006/relationships/hyperlink" Target="http://www.csanimated.com/animation.php?t=Big_O_notation" TargetMode="External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lexitatea 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hnici avansate de progra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ectarea algoritm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S"/>
          <p:cNvPicPr/>
          <p:nvPr/>
        </p:nvPicPr>
        <p:blipFill>
          <a:blip r:embed="rId1"/>
          <a:stretch/>
        </p:blipFill>
        <p:spPr>
          <a:xfrm>
            <a:off x="2819520" y="0"/>
            <a:ext cx="34099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 de analiză: Sortarea prin interschimb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ficienţ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alege operaţia elementară: atribui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numără atribuirile, în funcţie de lungimea vectorului de sort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că operaţia elementară este comparaţia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 interschimbarea (swap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itate – Nu se pune problema (înc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219320" y="3733920"/>
                <a:ext cx="32414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ul lui f: N →R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ţimea funcţiil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imptotic mărginite super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un multiplu pozitiv al lui f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pper b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ce? Pentru că există algoritmi pentru care datele de intrare influenţează numărul de operaţii elementare (ex.: numărul de interschimbări pentru Sortarea prin interschimba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ă exprimare: “este de tip O-mare (big O)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90720" y="3276720"/>
                <a:ext cx="75308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  <m:r>
                          <m:t xml:space="preserve">:</m:t>
                        </m:r>
                        <m:r>
                          <m:t xml:space="preserve">N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ul lui f: N →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că t(n) depinde de instanţă, căutăm o funcţie f majorantă, dar cu expresie invariant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ine de la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sanimated.com/animation.php?t=Big_O_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90720" y="1905120"/>
          <a:ext cx="6643440" cy="31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905120"/>
                    <a:ext cx="664344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14400" y="5105520"/>
                <a:ext cx="46544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⊂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⊂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⊂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⊂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14400" y="2203560"/>
                <a:ext cx="7467480" cy="20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(</m:t>
                            </m:r>
                            <m:r>
                              <m:t xml:space="preserve">∃</m:t>
                            </m:r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∀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(</m:t>
                            </m:r>
                            <m:r>
                              <m:t xml:space="preserve">∃</m:t>
                            </m:r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∀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(</m:t>
                            </m:r>
                            <m:r>
                              <m:t xml:space="preserve">∃</m:t>
                            </m:r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∀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(</m:t>
                            </m:r>
                            <m:r>
                              <m:t xml:space="preserve">∃</m:t>
                            </m:r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∀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(</m:t>
                            </m:r>
                            <m:r>
                              <m:t xml:space="preserve">∃</m:t>
                            </m:r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∀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t xml:space="preserve">c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ul lui f: N →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rarhie de ord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de dorit un algoritm de ordin cât mai în stân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seşte baza logaritmulu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191120" y="6248520"/>
                <a:ext cx="25923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ul lui f: N →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ţie, Exemple şi Proprie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în loc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imarea “t(n) es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l m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…)” este incorectă pentru că O(…) descri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 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în sine) o margine superioar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sanimated.com/animation.php?t=Big_O_no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entru o prezentare animat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523880" y="2514600"/>
                <a:ext cx="575964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≠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7120" y="2101680"/>
                <a:ext cx="1901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24280" y="2103480"/>
                <a:ext cx="1882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ă f: N →R, mulţimea funcţiil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imptotic mărginite infer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un multiplu pozitiv al lui f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wer b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rtarea asimptotic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 dată d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ght b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 exprimări: “este de tip omega-mare (big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eta-mare (big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ste trei notaţii fac parte din categori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aţiilor Bachmann-Land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914400" y="4572000"/>
                <a:ext cx="26686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∩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3124080"/>
                <a:ext cx="7898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  <m:r>
                          <m:t xml:space="preserve">:</m:t>
                        </m:r>
                        <m:r>
                          <m:t xml:space="preserve">N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 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952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că t(n) depinde de instanţă, căutăm o funcţie f care multiplicată  cu două  consta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înconjoară” pe t şi care are expresie invariant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00200" y="1600200"/>
          <a:ext cx="617220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617220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şi Proprie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876920" y="2438280"/>
                <a:ext cx="2476440" cy="22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≠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≠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≠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219320" y="2819520"/>
                <a:ext cx="28335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⊂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este complexitatea algoritmului următor? Exprimaţi prin cele 3 notaţ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 =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i = 1 to 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for j = 1 to n^2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for k = 1 to n^3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val = val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 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este complexitatea algoritmului următor? Exprimaţi prin cele 3 notaţ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 = 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j = 1; j &lt;= n; j* = 2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++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 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metodă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fectiv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rezolvare a unei probl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a determină algoritm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 înseamnă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fectiv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ă există mai mulţi algoritmi, pe care îl ale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şi Proprie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operaţia elementară se execută de un număr constant de ori, atunci complexitatea este O(1) (constant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 i = 0; i &lt; 5; i++ ) stat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 i = 0; i &lt; k; i++ ) state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operaţia elementară se execută de n ori într-u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unci complexitatea este O(n) (liniară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 i = 0; i &lt; n; i++ ) stat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 i = 0; i &lt; n; i++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 test_cond) state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 i = 0; i &lt; n; i = i + 2 ) stat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şi Proprie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operaţia elementară se execută în dou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bricate, atunci complexitatea este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(pătratic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 i = 0; i &lt; n; i++ 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 j = 0; j &lt; n; j++ ) stat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operaţia elementară se execută prin înjumătăţirea lui n, atunci complexitatea este O(log(n)) (logaritmic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= n –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( low &lt;= high 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d = ( low + high ) / 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 target &lt; list[mid] ) high = mid - 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 if ( target &gt; list[mid] ) low = mid + 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 break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entru că se realizează de k ori, unde n=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oximare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irl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ntru log(n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g(n!) = n*log(n) - n + O(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manuj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ntru log(n!) – ex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g(n!) = n*log(n) - n + log(n*(1+4*n*(1+2*n)))/6 + log(PI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 &gt;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i O(log(n!)) = O(n 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anujan, Srinivasa (1988), The lost notebook and other unpublished papers, Springer Berlin, p. 339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 354018726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atizarea analizei (trasare – profi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andare (augm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stru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uni suplimen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e (exec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zultate scri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 f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ere spe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za (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za f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erelor rezul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4400"/>
            <a:ext cx="7543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-34920"/>
            <a:ext cx="792504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353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3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atizarea analizei (trasare – profi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u pentru atribu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un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in 0 to n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j in i + 1 to n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[i] &gt; A[j]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( A[i], A[j]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+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ără 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atizarea analizei (trasare – profi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u pentru t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gin_time = clo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in 0 to n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j in i + 1 to n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[i] &gt; A[j] then swap( A[i], A[j]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_time = clo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_time = end_time - begin_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r 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atizarea analizei (trasare – profi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u pentru t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r probleme: Granularitatea ceasului introduce erori (unele execuţii se fac în timp zer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aţi codul şi comparaţi cu frecvenţa procesorulu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d test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 int i = 0; i &lt;100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t &lt;&lt; "clock() = " &lt;&lt; clock() &lt;&lt;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zolvare (parţială): Se realizează execuţii multip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 date de intrare dife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şi se calculează media aritmetic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a determină algoritm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probleme diferite, se presupune că se găsesc algoritmi diferiţ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: General Problem Solver (GP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ţie creată în 1957 de H. Simon, J.C. Shaw şi A. Ne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ell, A.; Shaw, J.C.; Simon, H.A. (1959). Report on a general problem-solving program. Proceedings of the International Conference on Information Processing. 256-26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atizarea analizei (trasare – profi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u pentru t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gin_time = clo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 k in 1 to n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in 0 to n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j in i + 1 to n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[i] &gt; A[j] then swap(A[i], A[j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_time = clo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_time = (end_time - begin_time) / n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atizarea analizei (trasare – profi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u pentru t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ce parţial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introduc suplimentări de timp prin resetarea lui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ă rezolvare (tot parţială): se consideră doar aplicaţia originală la captarea timpul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omatizarea analizei (trasare – profi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u pentru 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eded_time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r k in 1 to nex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egin_time = clo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i in 0 to n –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j in i + 1 to n –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[i] &gt; A[j] then swap( A[i], A[j]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time = clo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_time += (end_time - begin_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_time /=nex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atizarea analizei (trasare – profi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u pentru t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ce tot parţial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eiau neajunsurile de la trasarea iniţial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 probleme, în cazul unui algoritm oarec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ărul de operaţii elementare poate depinde de datele de intr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atizarea analizei (trasare – profi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u pentru t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bble-sort: operaţia elementară este interschimbarea (sw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pped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i in 1 to n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[i - 1] &gt; A[i]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p(A[i - 1], A[i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pped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sw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atizarea analizei (trasare – profi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ărul de operaţii elementare poate depinde de datele de intr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studiază cazur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 mai favorabil (consum minim de resur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 (statistica pentru toate cazurile – se generează toate instanţele – uneori infezab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 mai nefavorabil (consum maxim de resur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ă teoretic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area prin comparaţie (orice sortare în care se compară perechi de elemente, în mod repe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ţia elementară: comparaţ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oate un ordin de sortare prin comparaţie        &lt; O(n log(n)) în cazul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di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ă teoretic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ţiune elementară: comparaţ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orele de decizie: binar, nodul are o comparaţie, frunza este o permuta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ine d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hnici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area ş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za Algoritmilo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rel Lucanu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ultate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că Iaş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naţi cazul n = 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819520" y="3352680"/>
          <a:ext cx="632448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352680"/>
                    <a:ext cx="632448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86520" y="0"/>
            <a:ext cx="3057480" cy="245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ă teoretic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ţiune elementară: comparaţ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listă cu n elemente distincte se sortează în f(n) comparaţ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ă f(n) este minim, atunci arborele de decizie trebuie să fie echilibrat (arbore AV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arbore echilibrat pe f(n) niveluri are cel mul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un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!&lt;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ci f(n)&gt;log(n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 f(n) are cel puţin ordinul O(n log(n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delson-Velskii, G.; E. M. Landis (1962) "An algorithm for the organization of information". Proceedings of the USSR Academy of Sciences 146: 263–266. (Russian) English translation by Myron J. Ricci in Soviet Math. Doklady, 3:1259–12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et la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s.jhu.edu/~goodrich/dsa/trees/avltre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a de la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emmanuel.deb.free.fr/uv4/texte/icono/car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ă teoretic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ţiune elementară: comparaţ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ă sortări prin comparaţie cu O(n log(n)) în cazul medi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 înseamnă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fectiv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ferent de interacţiunile cu mediul (date de intrare, valori generate, evenimente externe) algoritmul este o listă finită, bine-definită de paş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ă programe fără date de intr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, rezolvă o singur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anţ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i generate: generatoare de numere aleato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 de eveniment extern: depăşirea timpului alocat pentru un transfer de date în reţ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ă teoretic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ţiune elementară: comparaţ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area prin interclasare (merge s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dure merge_sort (lis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length (lista) &lt; 2) return 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ft = jumatatea_stanga(lis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= restul(lis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merge(merge_sort(left), merge_sort(righ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ă recursiv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ă teoretic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ţiune elementară: comparaţ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area prin interclasare (merge s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(0) = T(1)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(2n) = 2T(n) + 2n, n&g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(2) = 2; T(4) = 8; T(8) = 24; T(16) = 64; T(32) = 160; 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(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2 T(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+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4 T(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-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+ 2*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8 T(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-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+ 3*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(1) + k*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k*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(n) = n* log(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ideolectures.net/mit6046jf05_introduction_algorithms/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sanimated.com/animation.php?t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ig_O_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ă există mai mulţi algoritmi, pe care îl utilize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c o măsură şi îi comp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ăsuri funcţionale (numerice, cantitative): cât timp este necesar, câtă memorie este necesar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tea de măsură: o comparaţie, o atribuire, un octe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ăsuri nefuncţionale (nenumerice, calitative, descrise de Ingineria Programării/Ingineria Softwa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78808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rietăţile 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zolvă problema propus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încheie întotdeauna (în lipsa întreruperilor exter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zolvă mai mul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anţ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turi diferite de date de intra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xecuţii repe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în aceleaşi condiţ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oluează iden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ăsesc invarianţe (momente în evoluţie când es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întotdeau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îndeplinită o propriet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ăt că: dacă e finit, atunci rezolvă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ăt că: este fi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ăt că: este cât mai eficient (optim de preferinţ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: Sortarea prin interschimb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i in 0 to n –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j in i + 1 to n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[i] &gt; A[j] then swap(A[i], A[j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 de analiză: Sortarea prin interschimb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varian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pă fiecare comparare cu ultimul element al vectorului, cel mai mic el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n fragmentul prelucr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junge pe poziţia corec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acă e finit, atunci rezolvă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fârşit, după cele n -1 treceri prin vector, se aşează corect primele n -1 elemente; vectorul este deci sortat; problema este rezolva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ste f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t 2 structuri repetitive for (cu numă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-prio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noscut de paşi) imbricate, deci secvenţa internă se execută de un număr finit de 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21:05Z</dcterms:created>
  <dc:creator>cerasela</dc:creator>
  <dc:description/>
  <dc:language>en-US</dc:language>
  <cp:lastModifiedBy>cerasela</cp:lastModifiedBy>
  <dcterms:modified xsi:type="dcterms:W3CDTF">2018-02-27T19:43:56Z</dcterms:modified>
  <cp:revision>168</cp:revision>
  <dc:subject/>
  <dc:title>Complexitatea algoritmilor</dc:title>
</cp:coreProperties>
</file>